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2.png" ContentType="image/png"/>
  <Override PartName="/ppt/media/image4.jpeg" ContentType="image/jpeg"/>
  <Override PartName="/ppt/media/image31.jpeg" ContentType="image/jpeg"/>
  <Override PartName="/ppt/media/image5.jpeg" ContentType="image/jpeg"/>
  <Override PartName="/ppt/media/image20.wmf" ContentType="image/x-wmf"/>
  <Override PartName="/ppt/media/image7.png" ContentType="image/png"/>
  <Override PartName="/ppt/media/image8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5.png" ContentType="image/png"/>
  <Override PartName="/ppt/media/image2.gif" ContentType="image/gif"/>
  <Override PartName="/ppt/media/image28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18.png" ContentType="image/png"/>
  <Override PartName="/ppt/media/image19.png" ContentType="image/pn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88400" cy="9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71880" cy="471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12920" y="0"/>
            <a:ext cx="3071880" cy="471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5480" y="705960"/>
            <a:ext cx="4714920" cy="353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200" y="447804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955000"/>
            <a:ext cx="3071880" cy="471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12920" y="8955000"/>
            <a:ext cx="3071880" cy="471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61C748E-067A-4869-AF7A-4488B8909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013280" y="8955000"/>
            <a:ext cx="3071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E92EB7C-2590-4884-94AA-AF71A3C1E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4920" cy="35355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9200" y="447804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013280" y="8955000"/>
            <a:ext cx="3071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099A9E1-A62F-4741-9B3E-8E821629A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4920" cy="35355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09200" y="447804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013280" y="8955000"/>
            <a:ext cx="3071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5CA660E-6843-48CB-B739-6EB94A2E2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4920" cy="35355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9200" y="447804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13280" y="8955000"/>
            <a:ext cx="3071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4BFED3F-095F-44B5-BAA9-81CEA589F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4920" cy="35355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9200" y="447804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013280" y="8955000"/>
            <a:ext cx="3071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9744791-9ED7-40F7-9893-9A755FD11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4920" cy="35355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9200" y="447804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4013280" y="8955000"/>
            <a:ext cx="3071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AD3101E-66FD-4704-8B5E-DF35735C0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4920" cy="35355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9200" y="447804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4013280" y="8955000"/>
            <a:ext cx="3071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EA90A4E-54B0-4FF8-8290-5DEE67CB6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4920" cy="35355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9200" y="447804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4013280" y="8955000"/>
            <a:ext cx="3071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42A9BFA-526E-4D20-86CE-6EE8A7E48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4920" cy="35355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9200" y="447804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13280" y="8955000"/>
            <a:ext cx="3071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4640948-C2E2-4A7B-870A-0630E217A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4920" cy="35355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9200" y="447804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4013280" y="8955000"/>
            <a:ext cx="3071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D132E21-43CF-4DA7-8EE4-9DA88568D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4920" cy="35355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9200" y="447804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013280" y="8955000"/>
            <a:ext cx="3071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6D76C09-CEC7-419E-8EA5-84D137192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4920" cy="35355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9200" y="447804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4013280" y="8955000"/>
            <a:ext cx="3071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29036C5-FEE3-40C2-8124-E6680E842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4920" cy="35355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9200" y="447804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4013280" y="8955000"/>
            <a:ext cx="3071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EB856F4-28C7-4F32-B880-306AEAC2D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4920" cy="35355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9200" y="447804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13280" y="8955000"/>
            <a:ext cx="3071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2D3310B-E660-4E88-A2E3-55189F93A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4920" cy="35355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9200" y="447804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4013280" y="8955000"/>
            <a:ext cx="3071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B13EC08-C847-4C7D-9205-0BC3D17FA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4920" cy="35355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9200" y="447804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Mediterranean climate makes farming convenient and ide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013280" y="8955000"/>
            <a:ext cx="3071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C5AC16B-815E-41D3-B792-0C4DB4A82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4920" cy="35355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9200" y="447804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013280" y="8955000"/>
            <a:ext cx="3071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CA5A455-0C91-4646-A80E-F80FB22A4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4920" cy="35355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9200" y="447804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13280" y="8955000"/>
            <a:ext cx="3071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B3EB4AE-37FF-47F2-970B-105D9A75D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4920" cy="35355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9200" y="447804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47F9-B784-42F3-AC3E-C26AF8898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94A2-7C60-4A30-9159-56DF862E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947E-E48B-459D-B941-20AFB3482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AC67-4932-4F79-94E8-5925FD567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90D7-A213-4A3D-8ADF-20FE0340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3655-C502-4F49-AEAD-118BD81A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C192-169F-4C7C-AF50-FD57AEC0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629D-31FC-40B5-B718-86651D58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EABC-412B-44A0-8298-D1121C48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38ED-39CB-45E8-AF2B-639250C7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7FC5-2169-418D-9D51-B61399A1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EEDE-BC53-46CD-BA4F-E88EBEBA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F81A-3892-407F-8314-C1F88D6F8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685800" y="1523880"/>
            <a:ext cx="769608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000000"/>
                </a:solidFill>
                <a:latin typeface="Castellar"/>
              </a:rPr>
              <a:t>Rome: From Village to Empire</a:t>
            </a:r>
            <a:endParaRPr b="1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838080" y="4572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like the Athenians, who had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r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rticipator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emocracy, the Romans established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presenta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emocracy, or,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PUBL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U S Capitol Building"/>
          <p:cNvPicPr/>
          <p:nvPr/>
        </p:nvPicPr>
        <p:blipFill>
          <a:blip r:embed="rId1"/>
          <a:stretch/>
        </p:blipFill>
        <p:spPr>
          <a:xfrm>
            <a:off x="838080" y="2630520"/>
            <a:ext cx="2133720" cy="13730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485640" y="43387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ke USA, France or Ita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0" descr="http://t3.gstatic.com/images?q=tbn:ANd9GcSlod6tgjLkGhs-UDE7lcdbkjp7uAHN7oOxv_v4BXEVE-pKw1SBWA"/>
          <p:cNvPicPr/>
          <p:nvPr/>
        </p:nvPicPr>
        <p:blipFill>
          <a:blip r:embed="rId2"/>
          <a:stretch/>
        </p:blipFill>
        <p:spPr>
          <a:xfrm>
            <a:off x="3252960" y="1773360"/>
            <a:ext cx="2790720" cy="163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http://www.sitographics.com/enciclog/banderas/escudos/image/repubblica_italiana__35917.jpg"/>
          <p:cNvPicPr/>
          <p:nvPr/>
        </p:nvPicPr>
        <p:blipFill>
          <a:blip r:embed="rId3"/>
          <a:stretch/>
        </p:blipFill>
        <p:spPr>
          <a:xfrm>
            <a:off x="6238800" y="1644480"/>
            <a:ext cx="2457360" cy="2857680"/>
          </a:xfrm>
          <a:prstGeom prst="rect">
            <a:avLst/>
          </a:prstGeom>
          <a:ln w="0">
            <a:noFill/>
          </a:ln>
        </p:spPr>
      </p:pic>
      <p:sp>
        <p:nvSpPr>
          <p:cNvPr id="85" name="1 CuadroTexto"/>
          <p:cNvSpPr/>
          <p:nvPr/>
        </p:nvSpPr>
        <p:spPr>
          <a:xfrm>
            <a:off x="685800" y="5886360"/>
            <a:ext cx="75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public comes from the Latin phras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es public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public affairs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wer rests with the citizens who have the right to vote for their lead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1295280" y="68580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Roman Social Structure in the Republi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762120" y="19051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Patricia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wealthy landowners and office-hold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762120" y="31240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Plebeia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farmers, artisans, traders…could vote but not hold political offi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838080" y="472428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Sla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mostly prisoners of war…not citizens…no righ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1 CuadroTexto"/>
          <p:cNvSpPr/>
          <p:nvPr/>
        </p:nvSpPr>
        <p:spPr>
          <a:xfrm>
            <a:off x="457200" y="61722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tricians and Plebeians struggled for power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ebeians outnumbered Patrician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2590920" y="9144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Rom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Relig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438280" y="22860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ytheistic: belief in more than one go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438280" y="279864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sorbed gods of others…including the Greek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438280" y="367020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ts of public festiva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1 CuadroTexto"/>
          <p:cNvSpPr/>
          <p:nvPr/>
        </p:nvSpPr>
        <p:spPr>
          <a:xfrm>
            <a:off x="876240" y="51912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st important Roman gods/goddesses were Jupiter (father of gods), Juno (watched over women) &amp; Minerva (goddess of wisdom &amp; arts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 time, worship of emperors also became part of the official religion of Rom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1295280" y="609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Roman Wome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981080" y="20574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ucated just like boy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981080" y="32004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vote, but could testify in cou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981080" y="43434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ained property righ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1981080" y="54100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influence in family than Greek wom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990720" y="15238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1 BCE: 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First Roman Law Co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286000" y="23623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ELVE carved stone table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7" descr="Ten Commandments Tablets"/>
          <p:cNvPicPr/>
          <p:nvPr/>
        </p:nvPicPr>
        <p:blipFill>
          <a:blip r:embed="rId1"/>
          <a:stretch/>
        </p:blipFill>
        <p:spPr>
          <a:xfrm>
            <a:off x="762120" y="3200400"/>
            <a:ext cx="4114800" cy="30304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8"/>
          <p:cNvSpPr/>
          <p:nvPr/>
        </p:nvSpPr>
        <p:spPr>
          <a:xfrm>
            <a:off x="4876920" y="32004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ak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Moses!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1600200" y="533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2286000" y="5335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stellar"/>
              </a:rPr>
              <a:t>THE TWELVE T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1 CuadroTexto"/>
          <p:cNvSpPr/>
          <p:nvPr/>
        </p:nvSpPr>
        <p:spPr>
          <a:xfrm>
            <a:off x="5257800" y="503064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ig victory for the plebeian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welve Tables established the idea that all free citizens had the right to the protection of the law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Roman map 2  380 BC"/>
          <p:cNvPicPr/>
          <p:nvPr/>
        </p:nvPicPr>
        <p:blipFill>
          <a:blip r:embed="rId1"/>
          <a:stretch/>
        </p:blipFill>
        <p:spPr>
          <a:xfrm>
            <a:off x="3733920" y="304920"/>
            <a:ext cx="4762440" cy="62578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838080" y="1523880"/>
            <a:ext cx="221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dually, the Romans began to expand their control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1143000" y="68580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they had conquered the entire Italian peninsula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us the islands of Corsica, Sardinia and Sici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5" descr="Roman map 3  220BC"/>
          <p:cNvPicPr/>
          <p:nvPr/>
        </p:nvPicPr>
        <p:blipFill>
          <a:blip r:embed="rId1"/>
          <a:stretch/>
        </p:blipFill>
        <p:spPr>
          <a:xfrm>
            <a:off x="457200" y="2209680"/>
            <a:ext cx="8305920" cy="40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028" descr="Roman road 1"/>
          <p:cNvPicPr/>
          <p:nvPr/>
        </p:nvPicPr>
        <p:blipFill>
          <a:blip r:embed="rId1"/>
          <a:stretch/>
        </p:blipFill>
        <p:spPr>
          <a:xfrm>
            <a:off x="533520" y="304920"/>
            <a:ext cx="4343400" cy="2982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29" descr="Roman Road 2"/>
          <p:cNvPicPr/>
          <p:nvPr/>
        </p:nvPicPr>
        <p:blipFill>
          <a:blip r:embed="rId2"/>
          <a:stretch/>
        </p:blipFill>
        <p:spPr>
          <a:xfrm>
            <a:off x="4343400" y="3657600"/>
            <a:ext cx="4191120" cy="24559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030"/>
          <p:cNvSpPr/>
          <p:nvPr/>
        </p:nvSpPr>
        <p:spPr>
          <a:xfrm>
            <a:off x="5715000" y="10666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they expanded their control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31"/>
          <p:cNvSpPr/>
          <p:nvPr/>
        </p:nvSpPr>
        <p:spPr>
          <a:xfrm>
            <a:off x="838080" y="434340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omans built an excellent network of roa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1 CuadroTexto"/>
          <p:cNvSpPr/>
          <p:nvPr/>
        </p:nvSpPr>
        <p:spPr>
          <a:xfrm>
            <a:off x="88920" y="61722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ads were initially built by and for the military, but helped with trade and communication at large as the republic and then empire grew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Roman Road Construction"/>
          <p:cNvPicPr/>
          <p:nvPr/>
        </p:nvPicPr>
        <p:blipFill>
          <a:blip r:embed="rId1"/>
          <a:stretch/>
        </p:blipFill>
        <p:spPr>
          <a:xfrm>
            <a:off x="228600" y="2590920"/>
            <a:ext cx="8610480" cy="29718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2362320" y="1066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re’s how they built them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1828800" y="30492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ir road system is one of the Romans’ greatest achiev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057400" y="60958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do you think they built them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6" descr="Roman Roads Map of Empire"/>
          <p:cNvPicPr/>
          <p:nvPr/>
        </p:nvPicPr>
        <p:blipFill>
          <a:blip r:embed="rId1"/>
          <a:stretch/>
        </p:blipFill>
        <p:spPr>
          <a:xfrm>
            <a:off x="1523880" y="1295280"/>
            <a:ext cx="601992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457200" y="6858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750 BCE: Latins (tribe) settle what becomes R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Italy-Map showing only Rome"/>
          <p:cNvPicPr/>
          <p:nvPr/>
        </p:nvPicPr>
        <p:blipFill>
          <a:blip r:embed="rId1"/>
          <a:stretch/>
        </p:blipFill>
        <p:spPr>
          <a:xfrm>
            <a:off x="2387520" y="1438200"/>
            <a:ext cx="3909960" cy="3962520"/>
          </a:xfrm>
          <a:prstGeom prst="rect">
            <a:avLst/>
          </a:prstGeom>
          <a:ln w="0">
            <a:noFill/>
          </a:ln>
        </p:spPr>
      </p:pic>
      <p:sp>
        <p:nvSpPr>
          <p:cNvPr id="51" name="1 CuadroTexto"/>
          <p:cNvSpPr/>
          <p:nvPr/>
        </p:nvSpPr>
        <p:spPr>
          <a:xfrm>
            <a:off x="6477120" y="4267080"/>
            <a:ext cx="1295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53 B.C. – legend says that Rome was founded by Romulus and Remus (Latins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029"/>
          <p:cNvSpPr/>
          <p:nvPr/>
        </p:nvSpPr>
        <p:spPr>
          <a:xfrm>
            <a:off x="0" y="685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stellar"/>
              </a:rPr>
              <a:t>Right! The Roman Road Syste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030"/>
          <p:cNvSpPr/>
          <p:nvPr/>
        </p:nvSpPr>
        <p:spPr>
          <a:xfrm>
            <a:off x="1981080" y="205740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owed easy military transpo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031"/>
          <p:cNvSpPr/>
          <p:nvPr/>
        </p:nvSpPr>
        <p:spPr>
          <a:xfrm>
            <a:off x="1981080" y="31240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abled trade and commer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032"/>
          <p:cNvSpPr/>
          <p:nvPr/>
        </p:nvSpPr>
        <p:spPr>
          <a:xfrm>
            <a:off x="1905120" y="4267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lped unify expanding Roman territori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1066680" y="53352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k to Roman expansion…who do you think would be a likely rival for control of the Mediterranean Sea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5" descr="Roman map 3  220BC"/>
          <p:cNvPicPr/>
          <p:nvPr/>
        </p:nvPicPr>
        <p:blipFill>
          <a:blip r:embed="rId1"/>
          <a:stretch/>
        </p:blipFill>
        <p:spPr>
          <a:xfrm>
            <a:off x="457200" y="2057400"/>
            <a:ext cx="815328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0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1143000" y="5335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stellar"/>
              </a:rPr>
              <a:t>Right again!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3809880" y="9144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stellar"/>
              </a:rPr>
              <a:t>Carthage!!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6" descr="Roman map 3  220BC"/>
          <p:cNvPicPr/>
          <p:nvPr/>
        </p:nvPicPr>
        <p:blipFill>
          <a:blip r:embed="rId1"/>
          <a:stretch/>
        </p:blipFill>
        <p:spPr>
          <a:xfrm>
            <a:off x="457200" y="1752480"/>
            <a:ext cx="838188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914400" y="25884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tween 264-146 BCE the Romans fought three wars with Carthage, known as the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astellar"/>
              </a:rPr>
              <a:t>Punic Wars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9" descr="AN02321_"/>
          <p:cNvPicPr/>
          <p:nvPr/>
        </p:nvPicPr>
        <p:blipFill>
          <a:blip r:embed="rId1"/>
          <a:stretch/>
        </p:blipFill>
        <p:spPr>
          <a:xfrm>
            <a:off x="6159600" y="1828800"/>
            <a:ext cx="2347920" cy="1668600"/>
          </a:xfrm>
          <a:prstGeom prst="rect">
            <a:avLst/>
          </a:prstGeom>
          <a:ln w="0">
            <a:noFill/>
          </a:ln>
        </p:spPr>
      </p:pic>
      <p:sp>
        <p:nvSpPr>
          <p:cNvPr id="133" name="1 CuadroTexto"/>
          <p:cNvSpPr/>
          <p:nvPr/>
        </p:nvSpPr>
        <p:spPr>
          <a:xfrm>
            <a:off x="609480" y="426708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64-146 BC – control of Sicily and the western Mediterranea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18-202 BC – Hannibal attempts to seize Rome – loses ½ men and most of his elephants AND then Roman general Scipio attacks Carthage (or close by…Zama) and defeats Hannibal, who commits suicide instead of being captured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49-146 BC – Rome laid siege to Carthage – city set to fire and its 50,000 inhabitants were sold into slavery – territory was made a Roman provi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1028" descr="http://www.hobbygalan.com/ficheros/thum/thum_thum_pop_foto_5688jpg.jpg"/>
          <p:cNvPicPr/>
          <p:nvPr/>
        </p:nvPicPr>
        <p:blipFill>
          <a:blip r:embed="rId2"/>
          <a:stretch/>
        </p:blipFill>
        <p:spPr>
          <a:xfrm>
            <a:off x="168120" y="1257480"/>
            <a:ext cx="4251600" cy="30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1523880" y="60948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me won…and went on to conquer the rest of the Mediterranean worl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5" descr="Roman map 4  86 BC"/>
          <p:cNvPicPr/>
          <p:nvPr/>
        </p:nvPicPr>
        <p:blipFill>
          <a:blip r:embed="rId1"/>
          <a:stretch/>
        </p:blipFill>
        <p:spPr>
          <a:xfrm>
            <a:off x="1371600" y="1523880"/>
            <a:ext cx="6629400" cy="4114800"/>
          </a:xfrm>
          <a:prstGeom prst="rect">
            <a:avLst/>
          </a:prstGeom>
          <a:ln w="0">
            <a:noFill/>
          </a:ln>
        </p:spPr>
      </p:pic>
      <p:sp>
        <p:nvSpPr>
          <p:cNvPr id="137" name="1 CuadroTexto"/>
          <p:cNvSpPr/>
          <p:nvPr/>
        </p:nvSpPr>
        <p:spPr>
          <a:xfrm>
            <a:off x="101520" y="60768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y 70 BC, Rome’s Mediterranean empire spread from Anatolia in the east to Spain in the west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Roman map 5  74 BC"/>
          <p:cNvPicPr/>
          <p:nvPr/>
        </p:nvPicPr>
        <p:blipFill>
          <a:blip r:embed="rId1"/>
          <a:stretch/>
        </p:blipFill>
        <p:spPr>
          <a:xfrm>
            <a:off x="1028880" y="714240"/>
            <a:ext cx="708660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Roman map 6  52 BC"/>
          <p:cNvPicPr/>
          <p:nvPr/>
        </p:nvPicPr>
        <p:blipFill>
          <a:blip r:embed="rId1"/>
          <a:stretch/>
        </p:blipFill>
        <p:spPr>
          <a:xfrm>
            <a:off x="685800" y="152280"/>
            <a:ext cx="7086600" cy="5429520"/>
          </a:xfrm>
          <a:prstGeom prst="rect">
            <a:avLst/>
          </a:prstGeom>
          <a:ln w="0">
            <a:noFill/>
          </a:ln>
        </p:spPr>
      </p:pic>
      <p:sp>
        <p:nvSpPr>
          <p:cNvPr id="140" name="1 CuadroTexto"/>
          <p:cNvSpPr/>
          <p:nvPr/>
        </p:nvSpPr>
        <p:spPr>
          <a:xfrm>
            <a:off x="584280" y="5715000"/>
            <a:ext cx="822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iumvirate (Julius Caesar, Crassus, Pompey) – success in Gaul made JC very popular with the people of Rome – Pompey and Crassus don’t like the power that JC is retainin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6 BC – JC returns to Rome and named dictator for life – senators (Marcus Brutus and Gaius Cassius) plotted his assassination in 44 BC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Roman map 7  40 BC"/>
          <p:cNvPicPr/>
          <p:nvPr/>
        </p:nvPicPr>
        <p:blipFill>
          <a:blip r:embed="rId1"/>
          <a:stretch/>
        </p:blipFill>
        <p:spPr>
          <a:xfrm>
            <a:off x="1028880" y="228600"/>
            <a:ext cx="6972120" cy="5029200"/>
          </a:xfrm>
          <a:prstGeom prst="rect">
            <a:avLst/>
          </a:prstGeom>
          <a:ln w="0">
            <a:noFill/>
          </a:ln>
        </p:spPr>
      </p:pic>
      <p:sp>
        <p:nvSpPr>
          <p:cNvPr id="142" name="1 CuadroTexto"/>
          <p:cNvSpPr/>
          <p:nvPr/>
        </p:nvSpPr>
        <p:spPr>
          <a:xfrm>
            <a:off x="152280" y="5294160"/>
            <a:ext cx="8991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riumvirate – Octavian (JC’s nephew), Mark Antony &amp; Lepidus – 43 BC took control of Rome and ruled for 10 year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iance ended in jealousy &amp; violence – eventually Octavian  accepted title of Augustus (“exalted one”) and ruled empire as one man!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w, Rome is an EMPIRE – Augustus retained title of IMPERATOR (supreme military commander) – a term from which emperor was derive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Roman map 12 25 BC-out of order"/>
          <p:cNvPicPr/>
          <p:nvPr/>
        </p:nvPicPr>
        <p:blipFill>
          <a:blip r:embed="rId1"/>
          <a:stretch/>
        </p:blipFill>
        <p:spPr>
          <a:xfrm>
            <a:off x="1028880" y="714240"/>
            <a:ext cx="708660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Roman map 8  8 AD"/>
          <p:cNvPicPr/>
          <p:nvPr/>
        </p:nvPicPr>
        <p:blipFill>
          <a:blip r:embed="rId1"/>
          <a:stretch/>
        </p:blipFill>
        <p:spPr>
          <a:xfrm>
            <a:off x="1028880" y="714240"/>
            <a:ext cx="708660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Rome,%20Ancient%20animation"/>
          <p:cNvPicPr/>
          <p:nvPr/>
        </p:nvPicPr>
        <p:blipFill>
          <a:blip r:embed="rId1"/>
          <a:stretch/>
        </p:blipFill>
        <p:spPr>
          <a:xfrm>
            <a:off x="1295280" y="304920"/>
            <a:ext cx="6811920" cy="4068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1600200" y="51814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e Rome Expand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Roman map 10 116 AD"/>
          <p:cNvPicPr/>
          <p:nvPr/>
        </p:nvPicPr>
        <p:blipFill>
          <a:blip r:embed="rId1"/>
          <a:stretch/>
        </p:blipFill>
        <p:spPr>
          <a:xfrm>
            <a:off x="857160" y="714240"/>
            <a:ext cx="742968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2057400" y="10666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eriod 27 BCE-180 AD (the last two maps) is known as th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914400" y="29718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stellar"/>
              </a:rPr>
              <a:t>PAX ROMANA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1 CuadroTexto"/>
          <p:cNvSpPr/>
          <p:nvPr/>
        </p:nvSpPr>
        <p:spPr>
          <a:xfrm>
            <a:off x="393840" y="556272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x Romana = Roman Pea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is was a time of great peace and prosperity for the Roman empire (included 3 million square miles and population was 60-80 million, with 1 million in Rome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1066680" y="3049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ring this perio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0" y="1523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mans thought they were the entire civilized worl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0" y="33526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opulation of the city of Rome reached 1 mill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0" y="4267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de increased, bringing a wealth of resources into R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0" y="5181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rts flourish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0" y="2438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me enjoyed military domin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caesar"/>
          <p:cNvPicPr/>
          <p:nvPr/>
        </p:nvPicPr>
        <p:blipFill>
          <a:blip r:embed="rId1"/>
          <a:srcRect l="19718" t="-893" r="12980" b="0"/>
          <a:stretch/>
        </p:blipFill>
        <p:spPr>
          <a:xfrm>
            <a:off x="533520" y="1447920"/>
            <a:ext cx="2014560" cy="41907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3"/>
          <p:cNvSpPr/>
          <p:nvPr/>
        </p:nvSpPr>
        <p:spPr>
          <a:xfrm>
            <a:off x="2133720" y="533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stellar"/>
              </a:rPr>
              <a:t>Gallery of famous Roma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33520" y="5867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lius Caes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5" descr="cleopatra"/>
          <p:cNvPicPr/>
          <p:nvPr/>
        </p:nvPicPr>
        <p:blipFill>
          <a:blip r:embed="rId2"/>
          <a:stretch/>
        </p:blipFill>
        <p:spPr>
          <a:xfrm>
            <a:off x="3048120" y="1143000"/>
            <a:ext cx="2835000" cy="35812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3124080" y="5181480"/>
            <a:ext cx="312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c Antony with Egyptian Queen Cleopatra  (Hollywood styl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7" descr="augustus"/>
          <p:cNvPicPr/>
          <p:nvPr/>
        </p:nvPicPr>
        <p:blipFill>
          <a:blip r:embed="rId3"/>
          <a:stretch/>
        </p:blipFill>
        <p:spPr>
          <a:xfrm>
            <a:off x="6400800" y="2133720"/>
            <a:ext cx="2471760" cy="28191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8"/>
          <p:cNvSpPr/>
          <p:nvPr/>
        </p:nvSpPr>
        <p:spPr>
          <a:xfrm>
            <a:off x="6400800" y="53341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ctavian (“Augustus”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Italy Topographical Map"/>
          <p:cNvPicPr/>
          <p:nvPr/>
        </p:nvPicPr>
        <p:blipFill>
          <a:blip r:embed="rId1"/>
          <a:stretch/>
        </p:blipFill>
        <p:spPr>
          <a:xfrm>
            <a:off x="285840" y="228600"/>
            <a:ext cx="4552920" cy="4572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285840" y="51814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’s Talk Topography and Geograph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28600" y="5638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ninsul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4191120" y="6019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untai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2286000" y="58802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v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1 CuadroTexto"/>
          <p:cNvSpPr/>
          <p:nvPr/>
        </p:nvSpPr>
        <p:spPr>
          <a:xfrm>
            <a:off x="4952880" y="72828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ng peninsula shaped like a boot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2 CuadroTexto"/>
          <p:cNvSpPr/>
          <p:nvPr/>
        </p:nvSpPr>
        <p:spPr>
          <a:xfrm>
            <a:off x="4952880" y="1308960"/>
            <a:ext cx="4114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Po is the principal river on the peninsula.  It flows from the Alps in the west and crosses the Padan plain before emptying into the Adriatic Sea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3 CuadroTexto"/>
          <p:cNvSpPr/>
          <p:nvPr/>
        </p:nvSpPr>
        <p:spPr>
          <a:xfrm>
            <a:off x="4952880" y="2936160"/>
            <a:ext cx="411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enine Mountains traverse entire peninsula north to south.  Also, the Alps form Italy’s northern boundary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Italy Topographical Map"/>
          <p:cNvPicPr/>
          <p:nvPr/>
        </p:nvPicPr>
        <p:blipFill>
          <a:blip r:embed="rId1"/>
          <a:stretch/>
        </p:blipFill>
        <p:spPr>
          <a:xfrm>
            <a:off x="457200" y="304920"/>
            <a:ext cx="5143680" cy="5165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228600" y="57913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me i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e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Apennines Mts: more fertile land &amp; river acce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1 CuadroTexto"/>
          <p:cNvSpPr/>
          <p:nvPr/>
        </p:nvSpPr>
        <p:spPr>
          <a:xfrm>
            <a:off x="6172200" y="457200"/>
            <a:ext cx="2743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the confluence of Aniene and Tiber Rivers.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me was built on seven rolling hills at a curve on the Tiber River near the center of the Italian peninsul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447920" y="9907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arly Romans were mostly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4470480" y="52704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RM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6" descr="http://blog.cvsd.k12.pa.us/poplicola/files/2011/11/relief02.jpg"/>
          <p:cNvPicPr/>
          <p:nvPr/>
        </p:nvPicPr>
        <p:blipFill>
          <a:blip r:embed="rId1"/>
          <a:stretch/>
        </p:blipFill>
        <p:spPr>
          <a:xfrm>
            <a:off x="4343400" y="1981080"/>
            <a:ext cx="4334040" cy="2819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http://historylink102.com/rome-pic/roman-pesant.jpg"/>
          <p:cNvPicPr/>
          <p:nvPr/>
        </p:nvPicPr>
        <p:blipFill>
          <a:blip r:embed="rId2"/>
          <a:stretch/>
        </p:blipFill>
        <p:spPr>
          <a:xfrm>
            <a:off x="914400" y="2362320"/>
            <a:ext cx="26100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Roman map 1  600 BC"/>
          <p:cNvPicPr/>
          <p:nvPr/>
        </p:nvPicPr>
        <p:blipFill>
          <a:blip r:embed="rId1"/>
          <a:stretch/>
        </p:blipFill>
        <p:spPr>
          <a:xfrm>
            <a:off x="685800" y="380880"/>
            <a:ext cx="3809880" cy="47628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4748040" y="258840"/>
            <a:ext cx="439596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600 BC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stellar"/>
              </a:rPr>
              <a:t>Etruscans</a:t>
            </a:r>
            <a:r>
              <a:rPr b="1" lang="en-US" sz="32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quer R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4748040" y="1630440"/>
            <a:ext cx="389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mans adopt Etruscan alphabet, art, gods, building techniques (including the arc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8" descr="arch3"/>
          <p:cNvPicPr/>
          <p:nvPr/>
        </p:nvPicPr>
        <p:blipFill>
          <a:blip r:embed="rId2"/>
          <a:stretch/>
        </p:blipFill>
        <p:spPr>
          <a:xfrm>
            <a:off x="6970680" y="3187800"/>
            <a:ext cx="1647720" cy="1904760"/>
          </a:xfrm>
          <a:prstGeom prst="rect">
            <a:avLst/>
          </a:prstGeom>
          <a:ln w="0">
            <a:noFill/>
          </a:ln>
        </p:spPr>
      </p:pic>
      <p:sp>
        <p:nvSpPr>
          <p:cNvPr id="73" name="1 CuadroTexto"/>
          <p:cNvSpPr/>
          <p:nvPr/>
        </p:nvSpPr>
        <p:spPr>
          <a:xfrm>
            <a:off x="685800" y="5562720"/>
            <a:ext cx="7953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 groups battle for control of the Italian Peninsula – Latins, Greeks, Etrusca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truscans native to northern Italy – skilled metalworkers and engineer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00 BC – an Etruscan became king of Rome – allowed Rome to grow from a collection of hilltop villages to a city that covered 500 square mile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Roman Battle"/>
          <p:cNvPicPr/>
          <p:nvPr/>
        </p:nvPicPr>
        <p:blipFill>
          <a:blip r:embed="rId1"/>
          <a:stretch/>
        </p:blipFill>
        <p:spPr>
          <a:xfrm>
            <a:off x="2362320" y="380880"/>
            <a:ext cx="4787640" cy="50292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304920" y="9144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509 BCE..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7149960" y="2908440"/>
            <a:ext cx="1600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omans overthrew the Etrusca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1 CuadroTexto"/>
          <p:cNvSpPr/>
          <p:nvPr/>
        </p:nvSpPr>
        <p:spPr>
          <a:xfrm>
            <a:off x="304920" y="5638680"/>
            <a:ext cx="844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st Etruscan king was Tarquin the Proud – very harsh tyrant who was driven from power by the Roma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omans declare they will never be ruled again by a king – leads to the establishment of the REPUBLIC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1219320" y="6858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’s interesting to note that this was the precise time that we think of Greece as entering its Classical Er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Parthenon"/>
          <p:cNvPicPr/>
          <p:nvPr/>
        </p:nvPicPr>
        <p:blipFill>
          <a:blip r:embed="rId1"/>
          <a:stretch/>
        </p:blipFill>
        <p:spPr>
          <a:xfrm>
            <a:off x="1219320" y="1752480"/>
            <a:ext cx="69627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7T13:24:26Z</dcterms:created>
  <dc:creator>SSG</dc:creator>
  <dc:description/>
  <dc:language>en-US</dc:language>
  <cp:lastModifiedBy>Salvador</cp:lastModifiedBy>
  <dcterms:modified xsi:type="dcterms:W3CDTF">2012-06-03T16:28:53Z</dcterms:modified>
  <cp:revision>40</cp:revision>
  <dc:subject/>
  <dc:title>Presentación de PowerPoint</dc:title>
</cp:coreProperties>
</file>